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AFFC0-04CC-4717-AF42-55F872B83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9077D-6DC1-4EDA-9823-451945020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5C326-4640-46B2-B5DB-FF16FE4EE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AA8F2-9EEE-4AE3-BE7B-259CABB62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9FE37-3952-4FF0-ACCB-23CD01021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69C69-371E-43CA-9844-5B7EE191A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513AC-E290-4D4C-A4C7-3688E5E2E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70D33-DF46-4064-9A23-33B1A4E17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5A765-2498-456F-B90F-388BB4D58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4A839-0F15-4E0D-85D1-091F836CB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D4986-9B5A-4BBB-8C45-ACC1A0F59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EB713-482A-460D-BC9F-CFFE9338A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5A72D-E847-496A-8AA8-9F7F3764F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D2D68-336C-45A0-81AD-08231CC1B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891F5-9AC5-4F13-9752-5ED882462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D8273-0E77-4577-B306-EF0909A79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DD84D-36B9-4F3A-9657-984CCA642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7D945-A82B-4440-A9A4-9DA9C30D3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2AFD5-1EA5-46F2-B3EA-E972C421F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C7F85-E10A-415D-9E1F-30CC7239C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632CF-D006-4748-98F1-008B5AC2B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A0FA4-8F6C-4694-A28A-A6E827FBE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7A4D5-F8B0-4BD4-B23A-800F94698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540DA-1BDB-4D5A-B45F-F1E428571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255DC-2D39-4188-8D42-71B5828109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DE232-D863-459E-8264-A047EAFDEF6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ffffb7"/>
                </a:solidFill>
                <a:latin typeface="굴림"/>
              </a:rPr>
              <a:t>8</a:t>
            </a: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장 교원과 교원단체 </a:t>
            </a:r>
            <a:endParaRPr b="1" lang="en-US" sz="48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생각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복지와 교육의 본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밀그램의 연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96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 예일대학교 심리학자 조교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tanley Milgra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나치의 학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기충격 실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5 : 35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단체의 필요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적 동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집단의 이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소속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상부상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성 신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권익보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복지 향상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 이상의 실현 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단체의 특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은 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공성과 공익성을 띠는 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복합적 성격을 띤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임의단체가 아닌 법정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단체의 역할과 기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소속감과 안정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을 대변하고 권익을 보호 증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적 자질 함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 경제적 지위 신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정책의 형성과 결정 과정에 참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다양한 복지와 혜택 제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청소년 복지와 사회의 건전한 발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한국의 교원단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국교원단체총연합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국교직원노동조합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교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총연합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단 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장논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11" name="Picture 3" descr="MCj04042630000[1]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40:34Z</dcterms:created>
  <dc:creator>XPuser</dc:creator>
  <dc:description/>
  <dc:language>en-US</dc:language>
  <cp:lastModifiedBy>staff</cp:lastModifiedBy>
  <dcterms:modified xsi:type="dcterms:W3CDTF">2008-12-12T05:54:22Z</dcterms:modified>
  <cp:revision>11</cp:revision>
  <dc:subject/>
  <dc:title>제 6장 교사교육 </dc:title>
</cp:coreProperties>
</file>